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8AEB-76E3-4A74-9376-E572D7334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84AF-7467-4BF7-8C05-B78E6232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791E-5852-4EA6-A9CD-5D8770B3A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C2F0-FA45-4A9C-8C29-764C78E00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C8066-5B31-479B-8968-1A74A670A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AC40-FFF8-4603-AA1D-4BDAEA2B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6534-B4B4-4B6F-9082-0D6538369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E7844-2A5E-40DE-B0DE-C9CA2AEFE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402FA-DB16-4A95-9D9D-9879524F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61A56-B696-4B58-85C2-2F290C7D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0DE5-3637-46F4-906D-BA1067D5F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AE12-C64A-4941-9FDD-9912C1CF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BBC6-D3B0-41A3-B57F-0E4A75765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90B7-6B69-4E14-B02A-D3EA8E2F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AD742-74E0-43D6-8F8E-56B09A7C5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3FEE-CFCF-47CA-A887-CA0DA210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DAAD1-521B-481C-A9B8-10EAD0A9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6CC-A5AF-41B0-9545-7C1125D0E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A0DA-3324-49F9-A67E-F4F8EFF0C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8CCF-E4D1-473C-9709-61A875972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11C7-2F64-4E3C-836A-0FAE62B6D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1987-59A0-42ED-B09E-42F1117F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96A-45EE-4D90-A723-415A0762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ADA-7AFB-4620-8FA0-D18EEB8E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BA0F-F211-4581-8AE6-6A2F8629F58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6240"/>
            <a:ext cx="6629400" cy="22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0342-A4FF-45A7-AE33-AABBCFC5AB6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825480" y="1577880"/>
          <a:ext cx="511812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5480" y="1577880"/>
                    <a:ext cx="511812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8 ГОД И ПЛАНОВЫЙ ПЕРИОД 2019-2020 ГГ. (млн.руб.)»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user31</cp:lastModifiedBy>
  <dcterms:modified xsi:type="dcterms:W3CDTF">2018-02-01T06:25:27Z</dcterms:modified>
  <cp:revision>40</cp:revision>
  <dc:subject/>
  <dc:title>Структура собственных доходов на 2016 год бюджета Дальнереченского городского округа</dc:title>
</cp:coreProperties>
</file>